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FCC-6675-4D80-8141-C8FC905B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8DE-3BE1-4158-A9FD-C20C911D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7AB-F4B6-4A23-A8A4-1027279F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964-8833-4CF6-BA2A-2AA80FDB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B0A-21B0-4305-9102-BE35F45C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373-17C6-4608-AD78-29A8265B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B3B-1AEE-421A-8DA9-7B892169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495-B58B-4963-97E3-69E6C008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4ED-AE94-4CB3-BC75-F42EC712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860-64EE-47A8-9BB8-201C8295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416-539E-46E8-9539-912ACCCA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356-DFFC-469A-ABAA-03CBCC37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D332-929A-4FA6-B4D3-F22F1A07D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lake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filmclub.org/assets/images/seasons/young-victoria-emily-blunt-monarchy-season-456.jpg"/>
          <p:cNvPicPr/>
          <p:nvPr/>
        </p:nvPicPr>
        <p:blipFill>
          <a:blip r:embed="rId1"/>
          <a:stretch/>
        </p:blipFill>
        <p:spPr>
          <a:xfrm>
            <a:off x="2057400" y="2438280"/>
            <a:ext cx="4343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 -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farm4.static.flickr.com/3500/3234068659_b21cbe0dd4.jpg"/>
          <p:cNvPicPr/>
          <p:nvPr/>
        </p:nvPicPr>
        <p:blipFill>
          <a:blip r:embed="rId1"/>
          <a:stretch/>
        </p:blipFill>
        <p:spPr>
          <a:xfrm>
            <a:off x="2209680" y="2438280"/>
            <a:ext cx="476280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libcom.org/files/images/library/philosophy_0.jpg"/>
          <p:cNvPicPr/>
          <p:nvPr/>
        </p:nvPicPr>
        <p:blipFill>
          <a:blip r:embed="rId1"/>
          <a:stretch/>
        </p:blipFill>
        <p:spPr>
          <a:xfrm>
            <a:off x="533520" y="2438280"/>
            <a:ext cx="7772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upload.wikimedia.org/wikipedia/commons/thumb/5/5d/Peninsula_croatia.jpg/300px-Peninsula_croatia.jpg"/>
          <p:cNvPicPr/>
          <p:nvPr/>
        </p:nvPicPr>
        <p:blipFill>
          <a:blip r:embed="rId1"/>
          <a:stretch/>
        </p:blipFill>
        <p:spPr>
          <a:xfrm>
            <a:off x="609480" y="2514600"/>
            <a:ext cx="7925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t0.gstatic.com/images?q=tbn:ANd9GcR4SG4-xBxMaUDbHYNM4OQCwahS4mxUTbtnyTxEHAsN9bnFwOpznw"/>
          <p:cNvPicPr/>
          <p:nvPr/>
        </p:nvPicPr>
        <p:blipFill>
          <a:blip r:embed="rId1"/>
          <a:stretch/>
        </p:blipFill>
        <p:spPr>
          <a:xfrm>
            <a:off x="1828800" y="2341440"/>
            <a:ext cx="4686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t3.gstatic.com/images?q=tbn:ANd9GcR47UfDRt1I_FUmzoYmR7Gj9awPwSWPjcSDwaUne6EwutwccdcV"/>
          <p:cNvPicPr/>
          <p:nvPr/>
        </p:nvPicPr>
        <p:blipFill>
          <a:blip r:embed="rId1"/>
          <a:stretch/>
        </p:blipFill>
        <p:spPr>
          <a:xfrm>
            <a:off x="4038480" y="2006640"/>
            <a:ext cx="32004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the coast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t1.gstatic.com/images?q=tbn:ANd9GcQf-T391ZlQxJHWaLwfmBVBtTSzTW_8P5C7VdO7nAURLbZTAzd_SQ"/>
          <p:cNvPicPr/>
          <p:nvPr/>
        </p:nvPicPr>
        <p:blipFill>
          <a:blip r:embed="rId1"/>
          <a:stretch/>
        </p:blipFill>
        <p:spPr>
          <a:xfrm>
            <a:off x="838080" y="2819520"/>
            <a:ext cx="641988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0" y="2112840"/>
            <a:ext cx="9144000" cy="474516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2"/>
          <a:stretch/>
        </p:blipFill>
        <p:spPr>
          <a:xfrm>
            <a:off x="1432080" y="774720"/>
            <a:ext cx="46638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 – states a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static.ddmcdn.com/gif/parthenon-and-the-acropolis-landmark-1.jpg"/>
          <p:cNvPicPr/>
          <p:nvPr/>
        </p:nvPicPr>
        <p:blipFill>
          <a:blip r:embed="rId1"/>
          <a:stretch/>
        </p:blipFill>
        <p:spPr>
          <a:xfrm>
            <a:off x="1905120" y="266688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ce where the Greeks meet and conduct busi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Agora of Athens"/>
          <p:cNvPicPr/>
          <p:nvPr/>
        </p:nvPicPr>
        <p:blipFill>
          <a:blip r:embed="rId1"/>
          <a:stretch/>
        </p:blipFill>
        <p:spPr>
          <a:xfrm>
            <a:off x="2819520" y="2133720"/>
            <a:ext cx="3952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dodekanissaweb.gr/world/images/france3.jpg"/>
          <p:cNvPicPr/>
          <p:nvPr/>
        </p:nvPicPr>
        <p:blipFill>
          <a:blip r:embed="rId1"/>
          <a:stretch/>
        </p:blipFill>
        <p:spPr>
          <a:xfrm>
            <a:off x="2819520" y="297180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sibities to his or he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t1.gstatic.com/images?q=tbn:ANd9GcS1tvhL56dl08PEuH4rUvRKwW0nma8NXVFX9i1v-KHIUS-KXFaMJBo84YFy"/>
          <p:cNvPicPr/>
          <p:nvPr/>
        </p:nvPicPr>
        <p:blipFill>
          <a:blip r:embed="rId1"/>
          <a:stretch/>
        </p:blipFill>
        <p:spPr>
          <a:xfrm>
            <a:off x="3200400" y="2895480"/>
            <a:ext cx="17812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ushistoryimages.com/images/roanoke-colony/fullsize/roanoke-colony-2.jpg"/>
          <p:cNvPicPr/>
          <p:nvPr/>
        </p:nvPicPr>
        <p:blipFill>
          <a:blip r:embed="rId1"/>
          <a:stretch/>
        </p:blipFill>
        <p:spPr>
          <a:xfrm>
            <a:off x="1981080" y="3124080"/>
            <a:ext cx="44769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upload.wikimedia.org/wikipedia/commons/thumb/d/db/Suffrage_universel_1848.jpg/300px-Suffrage_universel_1848.jpg"/>
          <p:cNvPicPr/>
          <p:nvPr/>
        </p:nvPicPr>
        <p:blipFill>
          <a:blip r:embed="rId1"/>
          <a:stretch/>
        </p:blipFill>
        <p:spPr>
          <a:xfrm>
            <a:off x="1828800" y="28479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ww.co.galveston.tx.us/judgecriss/212th%20DC%20Pictures/jury2.jpg"/>
          <p:cNvPicPr/>
          <p:nvPr/>
        </p:nvPicPr>
        <p:blipFill>
          <a:blip r:embed="rId1"/>
          <a:stretch/>
        </p:blipFill>
        <p:spPr>
          <a:xfrm>
            <a:off x="2438280" y="3124080"/>
            <a:ext cx="401004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1:12:15Z</dcterms:modified>
  <cp:revision>91</cp:revision>
  <dc:subject/>
  <dc:title>Ancient Greece</dc:title>
</cp:coreProperties>
</file>